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01D87-0CBA-4F02-92E5-D86E15A50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B9A85-5485-4374-8D00-15A3CBAF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16790-C4D3-4C2D-8C3C-1A267DF51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EAB09-B54A-4DC6-A7C4-FC301F17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42A8-FF9F-47AD-B7C8-FB293EDBF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F947-0058-4041-8A37-FBF2E66D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379C-5337-4F82-A623-E50EA176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1A04-9ACA-4FD5-AB22-C3195F8A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28A9-C673-48E4-887F-F877F9CE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6EE3-90C2-4B07-B6B5-1CDB060D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0D93-E3FD-43EC-AD4A-818C0437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0024E-3FC2-4268-A6FA-2E8290B7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C397-7F71-4E10-AC78-F8A5EA58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F559-987B-4966-B3A4-49384EB0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AA84-2BE0-4B1A-9B43-CB69AE8E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D71B-4972-4AA7-9CBC-588B92FFA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620D-0C1E-4813-A6EC-8795F48E1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1DB8E-B566-4673-AD79-5F5AAF35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7FF7B-B3E7-42A1-B3D3-75A8D3A5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07EBF-63E0-45F8-9C9F-F9EFAB4C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71973-6395-4631-857D-0865F4E1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F42FE-2783-4829-BC4E-7FC0C653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CB7A1-B2A9-44D9-8BAB-17158897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561FF-D75E-44B0-8F21-76CBA478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8629-32AF-4E95-9198-381992B289D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15A8-8410-468C-B567-6ED19C23772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0" spc="-1" strike="noStrike">
                <a:solidFill>
                  <a:srgbClr val="ffffff"/>
                </a:solidFill>
                <a:latin typeface="Arial"/>
              </a:rPr>
              <a:t>Interview collective (Focus Group)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400" spc="-1" strike="noStrike">
                <a:solidFill>
                  <a:srgbClr val="000000"/>
                </a:solidFill>
                <a:latin typeface="Arial"/>
              </a:rPr>
              <a:t>Chapitre V. </a:t>
            </a:r>
            <a:br>
              <a:rPr sz="3400"/>
            </a:br>
            <a:r>
              <a:rPr b="0" lang="fr-BE" sz="3400" spc="-1" strike="noStrike">
                <a:solidFill>
                  <a:srgbClr val="000000"/>
                </a:solidFill>
                <a:latin typeface="Arial"/>
              </a:rPr>
              <a:t>Collecte des donné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La démarche (2/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 u="sng">
                <a:solidFill>
                  <a:srgbClr val="000000"/>
                </a:solidFill>
                <a:uFillTx/>
                <a:latin typeface="Arial"/>
              </a:rPr>
              <a:t>2. Définition de l’échantil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Identifier les groupes ou catégories de personnes concernées par la problémat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es participants doivent être de préférenc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Représentati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Des « étrangers 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Homogènes au niveau de leur statut socio-éco (revenu, formation, emploi, origine famili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Hétérogènes point de vue âge et s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La démarche (3/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 u="sng">
                <a:solidFill>
                  <a:srgbClr val="000000"/>
                </a:solidFill>
                <a:uFillTx/>
                <a:latin typeface="Arial"/>
              </a:rPr>
              <a:t>3. Choix du modér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Le modérateur idéal est sociologue ou psychosociologue. Formé à la dynamique de groupe et à la commun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Attitude souhaitée : empathique, flexible, clair, écoute attentive, rester non autoritaire et non jugeant, faire parler et expliciter les idé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Gestion du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La démarche (4/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 u="sng">
                <a:solidFill>
                  <a:srgbClr val="000000"/>
                </a:solidFill>
                <a:uFillTx/>
                <a:latin typeface="Arial"/>
              </a:rPr>
              <a:t>4. Construction et pré-test du guide d’entret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 partir de la documentation disponible sur le sujet et d’entretiens avec des personnes res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Questions simples et cl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ommencer par des questions générales et évoluer vers des questions + spécif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ommencer avec les sujets les plus impor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Stimuler l’interaction, favoriser les questions ouve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La démarche (5/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 u="sng">
                <a:solidFill>
                  <a:srgbClr val="000000"/>
                </a:solidFill>
                <a:uFillTx/>
                <a:latin typeface="Arial"/>
              </a:rPr>
              <a:t>5. Constitution de l’échantillon et cont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chantillonnage à partir d’une liste préétab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es personnes invitées doivent pouvoir apporter un + dans le grou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xpliciter le temps que prendra la participation au F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« Représentativité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spects pratiques et pré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La démarche (6/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 u="sng">
                <a:solidFill>
                  <a:srgbClr val="000000"/>
                </a:solidFill>
                <a:uFillTx/>
                <a:latin typeface="Arial"/>
              </a:rPr>
              <a:t>6. Conduire un F.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Introduction – Rôle du modér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nduite – relances et bi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Ordre des questions et comportement du modér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L’analyse des résultats d’un F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La méthode des 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Identifier les passages perti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Classer les ré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Fiches théma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Analyse théma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Repè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. Lazarfeld, R. Merton (Réception et compréhension émissions de radio) </a:t>
            </a:r>
            <a:r>
              <a:rPr b="0" lang="fr-B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 Focused int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Usages en communication politique (G. Bush Sr., T. Bla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Usages scientifiques (80’s </a:t>
            </a:r>
            <a:r>
              <a:rPr b="0" lang="fr-B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06) : Gamson, Fraz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Utili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tudier les représentations, croyances, prises de position en interaction les unes avec les aut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Significations partagées et désac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Deux dimen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ntretiens de recherche (pas des groupes de vente, pas l’observation de discussions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llectifs (!dynamiques de groupes!, groupes naturels ou n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Définition du Focus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Entretien de groupe « libre et spontané » réalisé avec une dizaine d’individus sous la direction du modérateur qui facilite l’interaction, la formulation des propos et recentre, le cas échéant, les propos sur les thématiques à ab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Durée de 1h1/2 à 2h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S’inscrit dans la recherche de données permettant de comprendre les points de vue, comportements et représentations des acteu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Usages du Focus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Phase expl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Identification des problè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Aide à évaluer l’acceptation et la perception de certaines approches d’inter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Tester les résultats d’une enquête quantitative ou qualit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Arial"/>
              </a:rPr>
              <a:t>Démocratie particip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Avantages du FOCUS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Récolte beaucoup d’informations en peu de tem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ût relativement fa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Idées imprévues peuvent apparaî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xpression du point de vue des ac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Possibilité de feed back, de clar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Flexi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Limites du FOCUS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’analyse demande du te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Importance du modérateur (dynamique de groupe et bia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Généralisation faible des résultats + ne produit pas des données + participants pas représentatifs et « résultats » faiblement quantif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apacité discursive des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Biais possibles : usagers, interconnaiss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ffets pervers (participant dominant et effet de contag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Nécessité de recouper les inf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La démarche (1/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 u="sng">
                <a:solidFill>
                  <a:srgbClr val="000000"/>
                </a:solidFill>
                <a:uFillTx/>
                <a:latin typeface="Arial"/>
              </a:rPr>
              <a:t>Définition de l’objet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Importance de bien cerner l’objet ou le problème abordé par le group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Le nombre de FG dépend de la complexité de la question de départ et du nombre de groupes de personnes impliquées dans la problémati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04:32Z</dcterms:created>
  <dc:creator>Pirotte Gauthier</dc:creator>
  <dc:description/>
  <dc:language>en-US</dc:language>
  <cp:lastModifiedBy>Pirotte Gauthier</cp:lastModifiedBy>
  <dcterms:modified xsi:type="dcterms:W3CDTF">2007-03-08T14:17:17Z</dcterms:modified>
  <cp:revision>10</cp:revision>
  <dc:subject/>
  <dc:title>Focus Group</dc:title>
</cp:coreProperties>
</file>